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D98-04D5-47DE-80CC-58BC397D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A93-86C7-47AC-AC13-525639B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796-4932-4081-9427-91254F86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9AE-3953-4839-8277-266F9F83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0E3-9287-4504-8706-0B931F84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2A5-33EF-4F08-85BC-F1DEBC52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F47-1F78-4880-A28E-ACE816F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EF6-10F4-4152-8E9E-83E2F981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E1E-F577-40EC-A267-C2FC3D7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A2D-6BB7-4AE8-A95B-D4E37234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BCB-9700-4776-8394-25287D8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25F-13FC-46B3-9339-31AA4993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BE8C-6CA7-4D5C-AD7A-7FC031BEA1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8600" y="1905120"/>
            <a:ext cx="543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efini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16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72400" cy="390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380880"/>
            <a:ext cx="2590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257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3311640"/>
            <a:ext cx="75438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257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754380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543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620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1629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1:49Z</dcterms:modified>
  <cp:revision>210</cp:revision>
  <dc:subject/>
  <dc:title>Slide 1</dc:title>
</cp:coreProperties>
</file>